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BDB1-C7F4-4A59-ADE2-E2E85F14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BB7-2B02-4CF3-AA65-A4404AB0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242-BD99-46A2-8B2F-C285CD41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1959-36B1-4626-9066-BFE5770C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A9D-42DC-4098-927B-E943BA5F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562-A60B-4781-AE9E-DF3F0409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54F0-4239-4695-BB3B-0B496CF1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ADA-A72B-4472-8FC2-3663DAC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6ED-0C59-4439-8FD8-261E86A6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CFE-484F-4EA9-A086-087E8992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64E4-3066-4775-86C8-807F1076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1D3-7406-41A2-A9D1-15DFFAD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EA8-648E-4FBA-B92B-110488311D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outing.nl/" TargetMode="External"/><Relationship Id="rId3" Type="http://schemas.openxmlformats.org/officeDocument/2006/relationships/hyperlink" Target="http://www.scouting.nl/" TargetMode="External"/><Relationship Id="rId4" Type="http://schemas.openxmlformats.org/officeDocument/2006/relationships/hyperlink" Target="http://thubascouts.tmfweb.nl/" TargetMode="External"/><Relationship Id="rId5" Type="http://schemas.openxmlformats.org/officeDocument/2006/relationships/hyperlink" Target="http://thubascouts.tmfweb.nl/" TargetMode="External"/><Relationship Id="rId6" Type="http://schemas.openxmlformats.org/officeDocument/2006/relationships/hyperlink" Target="http://thubascouts.tmfweb.nl/" TargetMode="External"/><Relationship Id="rId7" Type="http://schemas.openxmlformats.org/officeDocument/2006/relationships/hyperlink" Target="http://thubascouts.tmfweb.nl/" TargetMode="External"/><Relationship Id="rId8" Type="http://schemas.openxmlformats.org/officeDocument/2006/relationships/hyperlink" Target="http://thubascouts.tmfweb.nl/" TargetMode="External"/><Relationship Id="rId9" Type="http://schemas.openxmlformats.org/officeDocument/2006/relationships/hyperlink" Target="http://thubascouts.tmfweb.nl/" TargetMode="External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dat plaatjes meer zeggen dan woo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beelden van enkele programma’s van de Scouts van Scouting Di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ogte punten zomerkamp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a Asterix &amp; Obel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daagse hike langs diverse po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003Scouts005" descr=""/>
          <p:cNvPicPr/>
          <p:nvPr/>
        </p:nvPicPr>
        <p:blipFill>
          <a:blip r:embed="rId2"/>
          <a:stretch/>
        </p:blipFill>
        <p:spPr>
          <a:xfrm>
            <a:off x="304920" y="227160"/>
            <a:ext cx="853416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ogte punten zomerkamp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vieze s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.a. met zelf-gebouwde katapult zakjes vla op andere kinderen schi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2003Scouts021" descr=""/>
          <p:cNvPicPr/>
          <p:nvPr/>
        </p:nvPicPr>
        <p:blipFill>
          <a:blip r:embed="rId2"/>
          <a:stretch/>
        </p:blipFill>
        <p:spPr>
          <a:xfrm>
            <a:off x="2057400" y="0"/>
            <a:ext cx="4973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ok tijdens het zomerkamp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merangs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dsspel in Nijm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sportd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ebreide bourgondische maaltij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 een willekeurige zaterdagmidd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iegeren in het heel g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vliegeren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vliegeren2" descr=""/>
          <p:cNvPicPr/>
          <p:nvPr/>
        </p:nvPicPr>
        <p:blipFill>
          <a:blip r:embed="rId3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 een willekeurige zaterdagmidd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 er sneeuw ligt, kun je natuurlijk gewoon een iglo bou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neeuw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5105160" cy="3317760"/>
          </a:xfrm>
          <a:prstGeom prst="rect">
            <a:avLst/>
          </a:prstGeom>
          <a:ln w="0">
            <a:noFill/>
          </a:ln>
        </p:spPr>
      </p:pic>
      <p:pic>
        <p:nvPicPr>
          <p:cNvPr id="58" name="sn5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4275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 een willekeurige zaterdagmidda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 het weer minder goed is, zijn leuke binnen-programma’s belangrij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kunt bijvoorbeeld iets bouwen met satéprikkers en kaar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kv3" descr=""/>
          <p:cNvPicPr/>
          <p:nvPr/>
        </p:nvPicPr>
        <p:blipFill>
          <a:blip r:embed="rId2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  <p:pic>
        <p:nvPicPr>
          <p:cNvPr id="62" name="kv4" descr=""/>
          <p:cNvPicPr/>
          <p:nvPr/>
        </p:nvPicPr>
        <p:blipFill>
          <a:blip r:embed="rId3"/>
          <a:stretch/>
        </p:blipFill>
        <p:spPr>
          <a:xfrm>
            <a:off x="380880" y="28584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r informatie?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meen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scouting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groep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thubascouts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tmfweb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age1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2971800" y="3124080"/>
            <a:ext cx="350532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2:42:05Z</dcterms:created>
  <dc:creator>Willems</dc:creator>
  <dc:description/>
  <dc:language>en-US</dc:language>
  <cp:lastModifiedBy>Willems</cp:lastModifiedBy>
  <dcterms:modified xsi:type="dcterms:W3CDTF">2003-09-11T13:14:46Z</dcterms:modified>
  <cp:revision>2</cp:revision>
  <dc:subject/>
  <dc:title>Omdat plaatjes meer zeggen dan woorden</dc:title>
</cp:coreProperties>
</file>